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35.png" ContentType="image/png"/>
  <Override PartName="/ppt/media/image40.png" ContentType="image/png"/>
  <Override PartName="/ppt/media/image45.png" ContentType="image/png"/>
  <Override PartName="/ppt/media/image46.png" ContentType="image/png"/>
  <Override PartName="/ppt/media/image19.jpeg" ContentType="image/jpeg"/>
  <Override PartName="/ppt/media/image49.png" ContentType="image/png"/>
  <Override PartName="/ppt/media/image51.png" ContentType="image/png"/>
  <Override PartName="/ppt/media/image31.jpeg" ContentType="image/jpeg"/>
  <Override PartName="/ppt/media/image4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C079-2AC5-4317-BBB4-4DF73516365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B500-DE5B-4E6F-A6AA-346FB871A10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5D84-C60E-44BE-9C35-48EB018F6DA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1687-FEDF-4428-A226-67A853300C8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918F-C04C-41A3-9A23-39533A97C5A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6638-F55E-444C-80C2-65F646D74AF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F059-42F3-4E9B-A162-4DE2CEDA1C5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547A-5283-46FA-AC1C-B7B076804EA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AB1E-8BE4-4C45-B8C7-24DE554BD71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B284-A034-481C-9492-5B37A086135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9ADF-B40C-43DD-B7C0-38352BAE474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0041-BFC4-46C6-873B-B32079EB5BA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2740-4016-4FF1-A355-72FA0FA23BF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2B81-67ED-4CA7-99A1-CA6C313E0E3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727F-B16D-4E0D-99E5-C9046EFE626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D95-A9C5-4F9E-90D8-6566D8C8CFC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otice the nitrogen/oxygens follwo pattern for h-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58AD-ED61-4364-922C-0A4823A0740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8CCE-D212-4B30-9017-2044AE046CF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evice similar to a spectroscope would be useful to accurately analyze the colour and match to known composition/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7584-267E-40BF-9262-D238A917031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Other methods of chromatography have other methods of quantifying the results. These are more accurate in many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A93A-83D4-4D57-89CA-8F4AD681FFF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E24F-2D2D-4A16-9C61-BF5D2957C0D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BFBD-40E0-42C4-9DF3-91A638FC95E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s by Capillary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matrix inside large metal tube (“packed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CDD5-66D4-4F86-AEBC-3CF771CACCA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9310-455A-416C-9126-AFC861F30ED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s by Capillary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matrix inside large metal tube (“packed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s by Capillary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matrix inside large metal tube (“packed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C9F-7095-4354-A744-5B82074BDDE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C1C3-E7DD-47A4-A444-852A719A295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E453-866B-4DB0-853A-A805FB0CE3B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5833-BE10-4D49-A92B-341C7912742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04F6-8921-471A-A840-E5AD36F3873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6ED0-7F25-4F2A-8878-74197CD27A8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EEB-4EF5-4068-B910-47649BFCE1E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E1F6-D274-47E5-91D3-6F9E931B93E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06C-E46D-4DDC-B091-9941F245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516-C1AD-40E6-A9DE-0B16D70D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2E0-7E5F-4D85-84D2-2181313E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EBA-B429-4D52-B344-2F8653DF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A4F6-05D6-48A9-B5CB-764C479C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214-2FA0-44BB-BD17-8BB3253E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8C73-32D2-4416-BA2D-CFEFEBA6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A656-A141-4B42-960A-5C366F7A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39D3-F0C3-472A-BE8B-DB00AA60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D379-C7C1-4780-A61A-008C2488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1490-2301-43C5-8B1E-DB26B68B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2C2-148A-43F3-B532-E75B73FC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AD13-528A-4773-9987-4242465E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ADEB-73C1-4168-8D9C-D17BF478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A911-23AF-4AC3-A2FF-73948F42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4870-99BF-4BBF-A9F4-D3C6085F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A408-966B-48E7-854A-5D7018D5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D230-7DA4-4D35-ABAB-BC026B52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CE3F-D717-4331-9095-B9611726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8AA2-DA59-49C7-A68E-7A9D23A3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7FAD-7A99-4935-AD62-AD980906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D75E-4BBC-4695-8344-286EA1B0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1E1-D02C-4586-903B-3A33B8D0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11FA-BA42-419C-8B23-1B751C22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C1BB-DE47-49D5-A38A-50378FF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4524-55A4-46D0-B0BB-9329C4E3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898BE-7C77-44AD-85A0-885CFCC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08C6-7848-43D5-856B-6EB0F2F4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FC91C-3414-4C7B-95B4-862347A7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D64C-2B3C-4B96-944A-F2B14F1B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F923B-4943-4F3D-8AA4-3AEA1D6E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202D8-2296-431A-A965-28E1BD4B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B57C-796B-43B4-A139-309EAB23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799-1ABF-495D-80F4-80CEB017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C0FD-34BC-4180-B782-D39E2C75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0151-C90F-44F2-97BE-8673B7BB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26CA-FB24-41D6-BF04-C9C53409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BD65-AE62-4380-9B59-BC80E508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CAACD-2344-4019-8A26-49B85D9F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EDB6-F4D7-4F8D-8CAD-00430299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610D-2840-4B29-AFB3-13A451E3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9E54-E75F-4C34-8147-9D5CAABA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4D3A-0688-4811-AC0E-CB761D2A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682F9-9511-4742-BF2C-BBF50AFD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EDE-1109-477A-875B-04A06232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4D2F0-70A6-4F66-9933-CCE8CB57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03D8-715C-4C21-A19D-6DE126A2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5FE14-825F-4A40-8903-61E6FFE5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9FE90-550B-4A94-A540-08198E74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D952-062B-4D8A-A605-7E12B08C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C1CCB-254E-4393-9DA9-9CA4CB5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BDCA2-4E52-4BC2-B4FF-3B43AE93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F2EFF-325D-4736-8403-0964BBAA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4F8EE-6854-4D32-B7A2-39E75897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07D9A-D662-45E9-9F37-CCD112C1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2AF-7AAE-4C65-ACA3-FB02D445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D8C14-2F72-4759-BE39-2D495860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BCF4D-1989-4F2E-B6F0-A40E9493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F2842-E9D8-44FD-BBE3-11FEBA66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E9AF7-42F8-487A-9214-8BF73CCC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04B8D-D6DB-4DBE-9952-599BC9C2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4E91F-502B-4706-B56A-E5BBECC2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BBD73-AE3E-4A08-B2AA-CA553C58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F8906-2494-4984-9F41-6807C76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68DFB-5650-4DCD-82CB-579659B2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C660B-D6D3-45FE-B481-365F909B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82F-5E7B-4325-9EFB-1A19199E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83B54-8498-4536-99A3-7C6A63E4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4EDF6-C32D-479D-9E23-823753CA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3E575-408F-4800-89C8-D93BEE21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E2234-2823-48F8-BC9C-EC4EE942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190BE-D7E5-4236-B5CC-984E231C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BBB1F-008E-43C9-AD97-32A93E3F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5A0B8-DD79-41CA-80E2-3B15495D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9F5AC-5464-4CCD-B13A-078218AA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F070A-94D6-4858-B86F-67C69C25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AAF2D-CFB1-4E2F-A8A9-45618D28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49B8-0013-47C3-9A6B-2034B2DD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5C54D-1E3D-4295-BAF2-676C55A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6D169-A1D9-4A72-8EDB-A48998EF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8C181-D71C-4C5C-8949-47667D85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44184-D471-41A8-A4DF-E1D3C226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AC674-9EFB-4375-AFDB-17D138ED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D8B-3E62-466E-B437-4263CB8A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A1E2-F72A-48A5-B0EA-010B58E9D937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EE23-40F8-4C00-8265-52BF3B8F0C63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BD81-BF84-4C78-9C20-04326B520F50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9E48-CEB9-49B4-BB86-0FF485FC7667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F3F9-F3C2-47A0-8AEF-2954E3A69BA5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414C-B46B-4FBA-8866-6D69492B4458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FD91-ABB3-4E65-94BD-746DC70020AE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2214360"/>
            <a:ext cx="8077320" cy="11142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am Hasham, Sam Heavenrich, Jayanth Prakhya, Enoch Tieu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37" name="Content Placeholder 5" descr="n710172737_1616626_2345.jpg"/>
          <p:cNvPicPr/>
          <p:nvPr/>
        </p:nvPicPr>
        <p:blipFill>
          <a:blip r:embed="rId2"/>
          <a:stretch/>
        </p:blipFill>
        <p:spPr>
          <a:xfrm>
            <a:off x="357120" y="1857240"/>
            <a:ext cx="3962520" cy="3714840"/>
          </a:xfrm>
          <a:prstGeom prst="rect">
            <a:avLst/>
          </a:prstGeom>
          <a:ln w="0">
            <a:noFill/>
          </a:ln>
        </p:spPr>
      </p:pic>
      <p:pic>
        <p:nvPicPr>
          <p:cNvPr id="338" name="Content Placeholder 6" descr="n710172737_1616631_3705.jpg"/>
          <p:cNvPicPr/>
          <p:nvPr/>
        </p:nvPicPr>
        <p:blipFill>
          <a:blip r:embed="rId3"/>
          <a:stretch/>
        </p:blipFill>
        <p:spPr>
          <a:xfrm>
            <a:off x="4381560" y="1857240"/>
            <a:ext cx="46195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213840" y="1571760"/>
            <a:ext cx="4714920" cy="52862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Pigment applied to Strip of Chromatography Paper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Strips hung on rack at equal lengths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Adsorbent added (70% Isopropyl Alcohol) 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Rack removed once solvent travelled to the top of each strip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The final position of solvent marke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The final position of pigments marke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Distance travelled by the mobile phase and each colour measure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" descr="pour.jpg"/>
          <p:cNvPicPr/>
          <p:nvPr/>
        </p:nvPicPr>
        <p:blipFill>
          <a:blip r:embed="rId2"/>
          <a:stretch/>
        </p:blipFill>
        <p:spPr>
          <a:xfrm>
            <a:off x="4775040" y="2286000"/>
            <a:ext cx="42134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"/>
          <p:cNvSpPr/>
          <p:nvPr/>
        </p:nvSpPr>
        <p:spPr>
          <a:xfrm>
            <a:off x="5214960" y="142920"/>
            <a:ext cx="392904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View Demo using the ‘Play’ button after each step. Do not proceed after the Gas Chromatography Demo appears. Use arrow keys for nex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ShockwaveFlash1"/>
          <p:cNvGraphicFramePr/>
          <p:nvPr/>
        </p:nvGraphicFramePr>
        <p:xfrm>
          <a:off x="0" y="1700280"/>
          <a:ext cx="9036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036000" cy="5157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9" name="Content Placeholder 3" descr="1.jpg"/>
          <p:cNvPicPr/>
          <p:nvPr/>
        </p:nvPicPr>
        <p:blipFill>
          <a:blip r:embed="rId2"/>
          <a:stretch/>
        </p:blipFill>
        <p:spPr>
          <a:xfrm>
            <a:off x="1214280" y="1714680"/>
            <a:ext cx="6786720" cy="38192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28400" y="5857560"/>
            <a:ext cx="8001000" cy="733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ixture involving Red, Yellow, and Blue Food Coloring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1 minut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99680" y="5928840"/>
            <a:ext cx="8001000" cy="66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ixture involving Red, Yellow, and Blue Food Coloring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6 minu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Content Placeholder 3" descr="2.jpg"/>
          <p:cNvPicPr/>
          <p:nvPr/>
        </p:nvPicPr>
        <p:blipFill>
          <a:blip r:embed="rId2"/>
          <a:srcRect l="12474" t="0" r="12474" b="0"/>
          <a:stretch/>
        </p:blipFill>
        <p:spPr>
          <a:xfrm>
            <a:off x="1428840" y="164304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99680" y="5857560"/>
            <a:ext cx="8001000" cy="733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ixture involving Red, Yellow, and Blue Food Coloring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18 minu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Content Placeholder 3" descr="3.jpg"/>
          <p:cNvPicPr/>
          <p:nvPr/>
        </p:nvPicPr>
        <p:blipFill>
          <a:blip r:embed="rId2"/>
          <a:srcRect l="12474" t="0" r="12474" b="0"/>
          <a:stretch/>
        </p:blipFill>
        <p:spPr>
          <a:xfrm>
            <a:off x="1752480" y="1643040"/>
            <a:ext cx="5619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99680" y="6000840"/>
            <a:ext cx="8001000" cy="590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pinach, Pomegranate and Blue Pig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pproximate elapsed time 0 minut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Content Placeholder 3" descr="4.jpg"/>
          <p:cNvPicPr/>
          <p:nvPr/>
        </p:nvPicPr>
        <p:blipFill>
          <a:blip r:embed="rId2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99680" y="5928840"/>
            <a:ext cx="8001000" cy="66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Spinach, Pomegranate and Blue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5 minu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Content Placeholder 3" descr="5.jpg"/>
          <p:cNvPicPr/>
          <p:nvPr/>
        </p:nvPicPr>
        <p:blipFill>
          <a:blip r:embed="rId2"/>
          <a:stretch/>
        </p:blipFill>
        <p:spPr>
          <a:xfrm>
            <a:off x="1857240" y="164304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99680" y="5928840"/>
            <a:ext cx="8001000" cy="66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Spinach, Pomegranate and Blue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13 minu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Content Placeholder 3" descr="6.jpg"/>
          <p:cNvPicPr/>
          <p:nvPr/>
        </p:nvPicPr>
        <p:blipFill>
          <a:blip r:embed="rId2"/>
          <a:stretch/>
        </p:blipFill>
        <p:spPr>
          <a:xfrm>
            <a:off x="1785960" y="15717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99840"/>
            <a:ext cx="4114800" cy="4900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ed as Rate of Flow or Retention Fac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lculated by divid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stance travelled by a component” ove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stance travelled by the mobile phase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dry.jpg"/>
          <p:cNvPicPr/>
          <p:nvPr/>
        </p:nvPicPr>
        <p:blipFill>
          <a:blip r:embed="rId2"/>
          <a:stretch/>
        </p:blipFill>
        <p:spPr>
          <a:xfrm>
            <a:off x="5143680" y="1571760"/>
            <a:ext cx="32860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428840"/>
            <a:ext cx="8458200" cy="5276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Separates mixtures (physical method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Involv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Stationary Phase; Surfa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Mobile Phase; Solvent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Quantifiabl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Retention Factor / Rate of Flow (Rf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Preparative: separates mixture for further 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Analytical: measures relative proportions of compon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Preparative more easily studi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685800" y="6324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2060"/>
                </a:solidFill>
                <a:latin typeface="Calibri"/>
              </a:rPr>
              <a:t>Rf = Distance traveled by solute/Distance traveled by sol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"/>
          <p:cNvGraphicFramePr/>
          <p:nvPr/>
        </p:nvGraphicFramePr>
        <p:xfrm>
          <a:off x="285840" y="1643040"/>
          <a:ext cx="8643960" cy="4664160"/>
        </p:xfrm>
        <a:graphic>
          <a:graphicData uri="http://schemas.openxmlformats.org/drawingml/2006/table">
            <a:tbl>
              <a:tblPr/>
              <a:tblGrid>
                <a:gridCol w="5786280"/>
                <a:gridCol w="2857680"/>
              </a:tblGrid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Distance Travelled (c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Mobile Phase / Adsorbent  (70% Isopropyl Rubbing Alcoh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Red Food Coloring (In Mixtur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Yellow Food Coloring (In Mixtur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Blue Food Coloring (In Mixtur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Green Food Coloring (Yellow Compon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Green Food Coloring (Blue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pinach Juice (Yellow Component 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pinach Juice (Yellow Component 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pinach Juice (Green Compon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omegranate Juice (Orchid Purple Compon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omegranate Juice (Light Salmon Pink Compon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357120" y="1643040"/>
          <a:ext cx="8429760" cy="4843440"/>
        </p:xfrm>
        <a:graphic>
          <a:graphicData uri="http://schemas.openxmlformats.org/drawingml/2006/table">
            <a:tbl>
              <a:tblPr/>
              <a:tblGrid>
                <a:gridCol w="5143680"/>
                <a:gridCol w="3286080"/>
              </a:tblGrid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d Food Coloring (in Mix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Food Coloring (in Mix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lue Food Coloring (in Mix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reen Food Coloring (Yellow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reen Food Coloring (Blue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pinach Extract (Yellow Component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pinach Extract (Yellow Component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pinach Extract (Green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omegranate Extract (Orchid Purple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omegranate Extract (Light Salmon Pink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6840" y="1600200"/>
            <a:ext cx="7900920" cy="5043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Rf = Degree of  Adsorp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Variances caused by Intermolecular Forc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Between Solute and Mobile Phase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Solute carried further by Adsorbent / More adsorption when the forces between them are greate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Forces between Solute and Stationary Phas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More adsorbtion onto Stationary Phase when the forces between them are greate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In Both Cas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Polarity Major Facto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H-bonding Larger Factor but capability limited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London’s Dispersion Forces Wea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571760"/>
            <a:ext cx="6472080" cy="52862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orbel"/>
              </a:rPr>
              <a:t>Mixture of Food Coloring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Molecular Formula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Red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8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4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a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8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Yellow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6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0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a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7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Blue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6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0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H-Bonding Patter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Relatively Similar Polarit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Long Hydrocarbon Chain = Low Polarity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Cellulose Chromatography Paper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orbel"/>
              </a:rPr>
              <a:t>Green Coloring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Yellow and Blue Component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Yellow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6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9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a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9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Blue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6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0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Same Blue Dye; Different Yellow Dy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igher Polarity Due to Presence of Sodium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igher Number of Nitrogen Atom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357880" y="1714680"/>
          <a:ext cx="3452760" cy="1752480"/>
        </p:xfrm>
        <a:graphic>
          <a:graphicData uri="http://schemas.openxmlformats.org/drawingml/2006/table">
            <a:tbl>
              <a:tblPr/>
              <a:tblGrid>
                <a:gridCol w="2214360"/>
                <a:gridCol w="1238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onent (in Food Coloring Mix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d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lue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5357880" y="4429080"/>
          <a:ext cx="3452760" cy="138132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onent (in Green Food Color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lue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mol.jpg"/>
          <p:cNvPicPr/>
          <p:nvPr/>
        </p:nvPicPr>
        <p:blipFill>
          <a:blip r:embed="rId1"/>
          <a:stretch/>
        </p:blipFill>
        <p:spPr>
          <a:xfrm>
            <a:off x="4148280" y="3857760"/>
            <a:ext cx="4995720" cy="30002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42920" y="157176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pinach Extra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Molecular Formula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Yellow 1: Carotenes: C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40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Yellow 2: Xanthophylls: C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40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56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Green: Chlorophyll B: C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55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70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M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H-Bonding comm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Carotenes Not-Pol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Xanthophylls’ 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214960" y="1785960"/>
          <a:ext cx="3452760" cy="1747800"/>
        </p:xfrm>
        <a:graphic>
          <a:graphicData uri="http://schemas.openxmlformats.org/drawingml/2006/table">
            <a:tbl>
              <a:tblPr/>
              <a:tblGrid>
                <a:gridCol w="2214720"/>
                <a:gridCol w="1238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onent (in Spinach Extra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Componen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Componen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reen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Pomegranate Analysi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Not Exact / Quantifiab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Not Definite 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 Colours Subjectiv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Components found in mixture can’t be re-us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Neither Preparative nor Analytica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Other Types such as Gas Chromatography provide the components in usable for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Prior Knowledge Required of Componen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Only Identifiable if know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Incorrect Identific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>
            <a:off x="214200" y="3500280"/>
            <a:ext cx="4357800" cy="314352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214880" y="1571400"/>
            <a:ext cx="4929120" cy="5143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All Rf Values are Rela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Paper &amp; Some Types of Thin Layer Chromatograph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Other Metho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Distribution Constant and Concentration More Reli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130760" indent="-1695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Freundlich Equation for Adsorp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130760" indent="-1695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Kovats Retention Index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130760" indent="-1695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Van Deemter Equ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2" descr="(K_D)_A = {(a_A)_{org} \over(a_A)_{aq}} \approx {[A]_{org} \over[A]_{aq}}"/>
          <p:cNvPicPr/>
          <p:nvPr/>
        </p:nvPicPr>
        <p:blipFill>
          <a:blip r:embed="rId2"/>
          <a:stretch/>
        </p:blipFill>
        <p:spPr>
          <a:xfrm>
            <a:off x="785880" y="3643200"/>
            <a:ext cx="3214800" cy="714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\ x/m=Kc^{1/n}"/>
          <p:cNvPicPr/>
          <p:nvPr/>
        </p:nvPicPr>
        <p:blipFill>
          <a:blip r:embed="rId3"/>
          <a:stretch/>
        </p:blipFill>
        <p:spPr>
          <a:xfrm>
            <a:off x="1071720" y="4500720"/>
            <a:ext cx="2571480" cy="546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I = 100 \times \left [ n + ( N - n ) \frac{log (t_{r (unknown)} ') - log (t_{r (n)} ')}{log (t_{r (N)} ') - log (t_{r (n)} ')} \right ] "/>
          <p:cNvPicPr/>
          <p:nvPr/>
        </p:nvPicPr>
        <p:blipFill>
          <a:blip r:embed="rId4"/>
          <a:stretch/>
        </p:blipFill>
        <p:spPr>
          <a:xfrm>
            <a:off x="285840" y="5143680"/>
            <a:ext cx="4190760" cy="580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 H = A + \frac{B}{u} + C \cdot u "/>
          <p:cNvPicPr/>
          <p:nvPr/>
        </p:nvPicPr>
        <p:blipFill>
          <a:blip r:embed="rId5"/>
          <a:stretch/>
        </p:blipFill>
        <p:spPr>
          <a:xfrm>
            <a:off x="1071720" y="5857920"/>
            <a:ext cx="2643120" cy="668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\ R_f = \frac{\mbox{migration distance of substance}}{\mbox{migration distance of solvent front}}"/>
          <p:cNvPicPr/>
          <p:nvPr/>
        </p:nvPicPr>
        <p:blipFill>
          <a:blip r:embed="rId6"/>
          <a:stretch/>
        </p:blipFill>
        <p:spPr>
          <a:xfrm>
            <a:off x="500040" y="1928880"/>
            <a:ext cx="3670200" cy="5000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8"/>
          <p:cNvSpPr/>
          <p:nvPr/>
        </p:nvSpPr>
        <p:spPr>
          <a:xfrm>
            <a:off x="214200" y="27147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rbel"/>
              </a:rPr>
              <a:t>Below:  More sophisticated methods of quantifying chromatography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afety Concer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Safety Goggles must be worn at all ti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Any contact with the alcohol must be avoid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Alcohol is Very Flammable and requires a well-ventilated are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More Sample Pig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Various Adsorb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The more data, the more definite the resul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3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2400"/>
          </a:xfrm>
          <a:prstGeom prst="rect">
            <a:avLst/>
          </a:prstGeom>
          <a:ln w="0">
            <a:noFill/>
          </a:ln>
        </p:spPr>
      </p:pic>
      <p:sp>
        <p:nvSpPr>
          <p:cNvPr id="397" name="Content Placeholder 3"/>
          <p:cNvSpPr/>
          <p:nvPr/>
        </p:nvSpPr>
        <p:spPr>
          <a:xfrm>
            <a:off x="785880" y="3214800"/>
            <a:ext cx="7715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n-Layer Chro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as Chromatography (In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quid Chro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356760" y="1642680"/>
            <a:ext cx="4714920" cy="500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Thin-Layer Chromatograph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rbel"/>
              </a:rPr>
              <a:t>Mobile Phase: Solution; Stationary Phase: Flat Sheet of Adsorbent (e.g. Silica Gel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</a:rPr>
              <a:t>Analyzing organic reaction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Components are separated using TLC plate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hey can then be scraped off to be analyzed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ther 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</a:rPr>
              <a:t>Application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assaying radiochemical purity of radiopharmaceutical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lant pigment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detection of pesticides or insecticides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5286240" y="1857240"/>
            <a:ext cx="335772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000320" y="1571400"/>
            <a:ext cx="4686120" cy="5143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Mikhail Semenovich Tsvet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Separate Tints / Types of Chromatograph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Trickled mixture through glass tube with Calcium Carbonate powder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Pigments stuck to powder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Different degrees of strength </a:t>
            </a:r>
            <a:r>
              <a:rPr b="0" lang="en-CA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 Coloured bands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http://upload.wikimedia.org/wikipedia/commons/3/3d/Tsvet_ms.jpg"/>
          <p:cNvPicPr/>
          <p:nvPr/>
        </p:nvPicPr>
        <p:blipFill>
          <a:blip r:embed="rId2"/>
          <a:stretch/>
        </p:blipFill>
        <p:spPr>
          <a:xfrm>
            <a:off x="428760" y="2214720"/>
            <a:ext cx="278604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"/>
          <p:cNvSpPr/>
          <p:nvPr/>
        </p:nvSpPr>
        <p:spPr>
          <a:xfrm>
            <a:off x="6357960" y="357120"/>
            <a:ext cx="25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Click ‘Next Example’ to View Gas Chromatography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ShockwaveFlash1"/>
          <p:cNvGraphicFramePr/>
          <p:nvPr/>
        </p:nvGraphicFramePr>
        <p:xfrm>
          <a:off x="108000" y="1700280"/>
          <a:ext cx="8604360" cy="49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700280"/>
                    <a:ext cx="8604360" cy="4941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480" y="1642680"/>
            <a:ext cx="4786200" cy="507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Gas Chromatography          (In Colum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Mobile Phase: Gas;    Stationary Phase: Solid/Liqui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lood alcohol analysis  in forensic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Blood analyzed using capillary colum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olumn Pressure 20 ps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ydrogen is mobile phas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ther Applic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nvironmental monitor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rug, bomb detec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4929120" y="2143080"/>
            <a:ext cx="3571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"/>
          <p:cNvPicPr/>
          <p:nvPr/>
        </p:nvPicPr>
        <p:blipFill>
          <a:blip r:embed="rId1"/>
          <a:stretch/>
        </p:blipFill>
        <p:spPr>
          <a:xfrm>
            <a:off x="3714840" y="5572080"/>
            <a:ext cx="5276880" cy="660600"/>
          </a:xfrm>
          <a:prstGeom prst="rect">
            <a:avLst/>
          </a:prstGeom>
          <a:ln w="0">
            <a:noFill/>
          </a:ln>
        </p:spPr>
      </p:pic>
      <p:pic>
        <p:nvPicPr>
          <p:cNvPr id="409" name="Rectangle 2" descr=""/>
          <p:cNvPicPr/>
          <p:nvPr/>
        </p:nvPicPr>
        <p:blipFill>
          <a:blip r:embed="rId2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14200" y="1643040"/>
            <a:ext cx="4500720" cy="5214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iquid Chromatograph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Mobile Phase: Liquid; Stationary Phase: Solid/Liquid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HPLC, NPLC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est for Water Pollu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nalyze metal ions + organic compounds in wate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ther Applic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purification of a drug produc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5000760" y="2214720"/>
            <a:ext cx="335736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http://www.nslc.wustl.edu/sicklecell/part2/chroma1.gif"/>
          <p:cNvPicPr/>
          <p:nvPr/>
        </p:nvPicPr>
        <p:blipFill>
          <a:blip r:embed="rId1"/>
          <a:stretch/>
        </p:blipFill>
        <p:spPr>
          <a:xfrm>
            <a:off x="4357800" y="1928880"/>
            <a:ext cx="2571480" cy="2000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http://www.nslc.wustl.edu/sicklecell/part2/chroma2.gif"/>
          <p:cNvPicPr/>
          <p:nvPr/>
        </p:nvPicPr>
        <p:blipFill>
          <a:blip r:embed="rId2"/>
          <a:stretch/>
        </p:blipFill>
        <p:spPr>
          <a:xfrm>
            <a:off x="6858000" y="1857240"/>
            <a:ext cx="1905120" cy="194328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2" descr=""/>
          <p:cNvPicPr/>
          <p:nvPr/>
        </p:nvPicPr>
        <p:blipFill>
          <a:blip r:embed="rId3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357120" y="1643040"/>
            <a:ext cx="55008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 separatio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as / Liquid Chro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tationary Phase Rotated; 2 Mobile Phases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olar Mobile Phas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erse Rf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6" descr="http://www.nslc.wustl.edu/sicklecell/part2/chroma3.gif"/>
          <p:cNvPicPr/>
          <p:nvPr/>
        </p:nvPicPr>
        <p:blipFill>
          <a:blip r:embed="rId4"/>
          <a:stretch/>
        </p:blipFill>
        <p:spPr>
          <a:xfrm>
            <a:off x="6715080" y="3857760"/>
            <a:ext cx="1955880" cy="22222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7"/>
          <p:cNvSpPr/>
          <p:nvPr/>
        </p:nvSpPr>
        <p:spPr>
          <a:xfrm>
            <a:off x="4929120" y="3429000"/>
            <a:ext cx="428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7643880" y="3500280"/>
            <a:ext cx="2858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7500960" y="5643720"/>
            <a:ext cx="357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Straight Arrow Connector 11"/>
          <p:cNvCxnSpPr/>
          <p:nvPr/>
        </p:nvCxnSpPr>
        <p:spPr>
          <a:xfrm>
            <a:off x="5785920" y="2642760"/>
            <a:ext cx="1001160" cy="2520"/>
          </a:xfrm>
          <a:prstGeom prst="straightConnector1">
            <a:avLst/>
          </a:prstGeom>
          <a:ln cap="rnd" w="2232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421" name="Straight Arrow Connector 13"/>
          <p:cNvCxnSpPr/>
          <p:nvPr/>
        </p:nvCxnSpPr>
        <p:spPr>
          <a:xfrm flipH="1">
            <a:off x="7714440" y="3501720"/>
            <a:ext cx="2520" cy="500760"/>
          </a:xfrm>
          <a:prstGeom prst="straightConnector1">
            <a:avLst/>
          </a:prstGeom>
          <a:ln cap="rnd" w="25560">
            <a:solidFill>
              <a:srgbClr val="f0a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5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This concludes the present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www.rpi.edu/dept/chem-eng/Biotech-Environ/CHROMO/part.gif"/>
          <p:cNvPicPr/>
          <p:nvPr/>
        </p:nvPicPr>
        <p:blipFill>
          <a:blip r:embed="rId1"/>
          <a:stretch/>
        </p:blipFill>
        <p:spPr>
          <a:xfrm>
            <a:off x="5643720" y="3071880"/>
            <a:ext cx="3530520" cy="3103560"/>
          </a:xfrm>
          <a:prstGeom prst="rect">
            <a:avLst/>
          </a:prstGeom>
          <a:ln w="0">
            <a:noFill/>
          </a:ln>
        </p:spPr>
      </p:pic>
      <p:pic>
        <p:nvPicPr>
          <p:cNvPr id="319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499760"/>
            <a:ext cx="6215040" cy="5357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orbel"/>
              </a:rPr>
              <a:t>Partition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sed on the </a:t>
            </a: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thin film formed on the surface of a solid support by a liquid stationary phas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Solute equilibrates between the mobile phase and the stationary liquid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orbel"/>
              </a:rPr>
              <a:t>Ion Exchange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Resin is used to covalently attach anions or cations by electrostatic forc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Solute Mobile Liquid Phase have opposite char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affin.gif"/>
          <p:cNvPicPr/>
          <p:nvPr/>
        </p:nvPicPr>
        <p:blipFill>
          <a:blip r:embed="rId1"/>
          <a:stretch/>
        </p:blipFill>
        <p:spPr>
          <a:xfrm>
            <a:off x="4886280" y="3357720"/>
            <a:ext cx="4257720" cy="242856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642680"/>
            <a:ext cx="5614920" cy="500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orbel"/>
              </a:rPr>
              <a:t>Molecular Exclusion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o attraction between </a:t>
            </a: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stationary phase and solut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Liquid or Gaseous Mobile Phase separates  molecules according to siz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orbel"/>
              </a:rPr>
              <a:t>Affinity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Most selectiv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Interaction between only 1 component of solute and stationary phase molecu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Only the specific component is attracted to the stationary phas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85840" y="1642680"/>
            <a:ext cx="4643280" cy="500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Adsorption: When a fluid solute accumulates on the surface of a solid or liqui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Different amounts of the components of a mixture are adsorbed to the 2 phas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As mobile phase moves through stationery phase, the substances that are easily adsorbed will ‘lag’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Separation creat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http://www.rpi.edu/dept/chem-eng/Biotech-Environ/CHROMO/adsorp.gif"/>
          <p:cNvPicPr/>
          <p:nvPr/>
        </p:nvPicPr>
        <p:blipFill>
          <a:blip r:embed="rId2"/>
          <a:stretch/>
        </p:blipFill>
        <p:spPr>
          <a:xfrm>
            <a:off x="5000760" y="2143080"/>
            <a:ext cx="37861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-360" y="1643040"/>
            <a:ext cx="5072040" cy="5214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rcher JP Martin and Richard LM Synge in 194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trip of porous filter paper substituted for powder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ed to separate protei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ater used to Separate and Identify components of various mixtur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industrial settings, Paper Chromatography has been replaced by more sophisticated method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http://nobelprize.org/nobel_prizes/chemistry/laureates/1952/martin.jpg"/>
          <p:cNvPicPr/>
          <p:nvPr/>
        </p:nvPicPr>
        <p:blipFill>
          <a:blip r:embed="rId2"/>
          <a:stretch/>
        </p:blipFill>
        <p:spPr>
          <a:xfrm>
            <a:off x="4786200" y="2857680"/>
            <a:ext cx="2071800" cy="2903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http://nobelprize.org/nobel_prizes/chemistry/laureates/1952/synge.jpg"/>
          <p:cNvPicPr/>
          <p:nvPr/>
        </p:nvPicPr>
        <p:blipFill>
          <a:blip r:embed="rId3"/>
          <a:stretch/>
        </p:blipFill>
        <p:spPr>
          <a:xfrm>
            <a:off x="6858000" y="2857680"/>
            <a:ext cx="20718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356760" y="1600200"/>
            <a:ext cx="4071960" cy="5043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lace a drop of a mixture on the pap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Dip one edge of the paper into the mobile phas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rough capillary action, adsorbent will move up the pap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Once adsorption occurs and the paper dries, spray-on reagen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agent will reveal change in colo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paper chromatogram of dyes and mixtures"/>
          <p:cNvPicPr/>
          <p:nvPr/>
        </p:nvPicPr>
        <p:blipFill>
          <a:blip r:embed="rId2"/>
          <a:stretch/>
        </p:blipFill>
        <p:spPr>
          <a:xfrm>
            <a:off x="4357800" y="2286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3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35" name="Content Placeholder 3"/>
          <p:cNvSpPr/>
          <p:nvPr/>
        </p:nvSpPr>
        <p:spPr>
          <a:xfrm>
            <a:off x="785880" y="3214800"/>
            <a:ext cx="7715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To predict the composition of various mixtures using Paper Chroma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6:19:30Z</dcterms:created>
  <dc:creator>Samim</dc:creator>
  <dc:description/>
  <dc:language>en-US</dc:language>
  <cp:lastModifiedBy>HASHAM</cp:lastModifiedBy>
  <dcterms:modified xsi:type="dcterms:W3CDTF">2009-01-03T21:25:04Z</dcterms:modified>
  <cp:revision>52</cp:revision>
  <dc:subject/>
  <dc:title>Chromatographic Separation</dc:title>
</cp:coreProperties>
</file>